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8E38-EBD1-49D1-B67F-3673FF32E4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52C8-E763-43C5-8520-B74954B3FA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164C-E4C2-4102-8D7F-29F6B06A90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222F-84DD-4CDE-8B85-262B552529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9CE6-845B-4D4D-8A6A-CBD0629309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94AC-6B2F-4BA8-9DBE-F6BCCE1F3A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6CE-AB62-4A12-B4EB-F4CDC588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4B6-D75B-4FE0-8B77-28A22835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07D-91EF-4C95-BB1A-DBFE7EC3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938-666B-4A70-917E-95B15B1B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9AA-C865-47B9-AD9A-A36763A1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213-9445-40A2-A603-5C0DFC76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1F0-A71E-4D81-83EE-AE390861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B70-1B2A-47EE-904C-D369F9F8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DE8-2DEB-43AB-B736-EF71897E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409-6FC1-4E09-A26B-A2AC55E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519-6143-477E-93B8-E28FF6C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C38-F088-4335-9CD6-D1CCA6B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AA05-10DF-4BA8-ADF6-DA089A190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11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501599402&amp;tn=baiduimagedetail&amp;word=&#20050;&#20051;&#29699;&#25293;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20.pn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L-040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3622680" y="982800"/>
            <a:ext cx="23623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Unit 5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760400" y="2333520"/>
            <a:ext cx="61344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o you have a soccer ball?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257800" y="5867280"/>
            <a:ext cx="34196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971800" y="416880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A  (Period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26-1"/>
          <p:cNvPicPr/>
          <p:nvPr/>
        </p:nvPicPr>
        <p:blipFill>
          <a:blip r:embed="rId2"/>
          <a:stretch/>
        </p:blipFill>
        <p:spPr>
          <a:xfrm>
            <a:off x="34920" y="1676520"/>
            <a:ext cx="9109080" cy="4681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4211640" y="404640"/>
            <a:ext cx="47530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Listen and number the things [1-4]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24"/>
          <p:cNvGrpSpPr/>
          <p:nvPr/>
        </p:nvGrpSpPr>
        <p:grpSpPr>
          <a:xfrm>
            <a:off x="71280" y="360360"/>
            <a:ext cx="2988000" cy="981000"/>
            <a:chOff x="71280" y="360360"/>
            <a:chExt cx="2988000" cy="981000"/>
          </a:xfrm>
        </p:grpSpPr>
        <p:pic>
          <p:nvPicPr>
            <p:cNvPr id="144" name="Picture 6" descr="BAN_052"/>
            <p:cNvPicPr/>
            <p:nvPr/>
          </p:nvPicPr>
          <p:blipFill>
            <a:blip r:embed="rId3"/>
            <a:stretch/>
          </p:blipFill>
          <p:spPr>
            <a:xfrm>
              <a:off x="71280" y="360360"/>
              <a:ext cx="29880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7"/>
            <p:cNvSpPr/>
            <p:nvPr/>
          </p:nvSpPr>
          <p:spPr>
            <a:xfrm>
              <a:off x="71280" y="556920"/>
              <a:ext cx="285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Listen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2"/>
          <p:cNvSpPr/>
          <p:nvPr/>
        </p:nvSpPr>
        <p:spPr>
          <a:xfrm>
            <a:off x="3095640" y="476280"/>
            <a:ext cx="9000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03400" y="36846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7566120" y="56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5411880" y="3652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动作按钮: 声音 10"/>
          <p:cNvSpPr/>
          <p:nvPr/>
        </p:nvSpPr>
        <p:spPr>
          <a:xfrm>
            <a:off x="7054920" y="1274760"/>
            <a:ext cx="584280" cy="401760"/>
          </a:xfrm>
          <a:custGeom>
            <a:avLst/>
            <a:gdLst>
              <a:gd name="textAreaLeft" fmla="*/ 25920 w 584280"/>
              <a:gd name="textAreaRight" fmla="*/ 558360 w 58428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31404" h="21600">
                <a:moveTo>
                  <a:pt x="0" y="0"/>
                </a:moveTo>
                <a:lnTo>
                  <a:pt x="31404" y="0"/>
                </a:lnTo>
                <a:lnTo>
                  <a:pt x="31404" y="21600"/>
                </a:lnTo>
                <a:lnTo>
                  <a:pt x="0" y="21600"/>
                </a:lnTo>
                <a:close/>
              </a:path>
              <a:path fill="lightenLess" w="31404" h="21600">
                <a:moveTo>
                  <a:pt x="0" y="0"/>
                </a:moveTo>
                <a:lnTo>
                  <a:pt x="31404" y="0"/>
                </a:lnTo>
                <a:lnTo>
                  <a:pt x="30004" y="1400"/>
                </a:lnTo>
                <a:lnTo>
                  <a:pt x="1400" y="1400"/>
                </a:lnTo>
                <a:close/>
              </a:path>
              <a:path fill="darken" w="31404" h="21600">
                <a:moveTo>
                  <a:pt x="31404" y="0"/>
                </a:moveTo>
                <a:lnTo>
                  <a:pt x="31404" y="21600"/>
                </a:lnTo>
                <a:lnTo>
                  <a:pt x="30004" y="20200"/>
                </a:lnTo>
                <a:lnTo>
                  <a:pt x="30004" y="1400"/>
                </a:lnTo>
                <a:close/>
              </a:path>
              <a:path fill="darkenLess" w="31404" h="21600">
                <a:moveTo>
                  <a:pt x="31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4" y="20200"/>
                </a:lnTo>
                <a:close/>
              </a:path>
              <a:path fill="lighten" w="31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4" h="21600">
                <a:moveTo>
                  <a:pt x="8696" y="8406"/>
                </a:moveTo>
                <a:lnTo>
                  <a:pt x="13126" y="8406"/>
                </a:lnTo>
                <a:lnTo>
                  <a:pt x="17547" y="3794"/>
                </a:lnTo>
                <a:lnTo>
                  <a:pt x="17547" y="17806"/>
                </a:lnTo>
                <a:lnTo>
                  <a:pt x="13126" y="13194"/>
                </a:lnTo>
                <a:lnTo>
                  <a:pt x="8696" y="13194"/>
                </a:lnTo>
                <a:close/>
              </a:path>
              <a:path fill="darken" w="31404" h="21600">
                <a:moveTo>
                  <a:pt x="19201" y="10800"/>
                </a:moveTo>
                <a:lnTo>
                  <a:pt x="22709" y="10800"/>
                </a:lnTo>
              </a:path>
              <a:path fill="darken" w="31404" h="21600">
                <a:moveTo>
                  <a:pt x="19201" y="8406"/>
                </a:moveTo>
                <a:lnTo>
                  <a:pt x="22709" y="5639"/>
                </a:lnTo>
              </a:path>
              <a:path fill="darken" w="31404" h="21600">
                <a:moveTo>
                  <a:pt x="19201" y="13194"/>
                </a:moveTo>
                <a:lnTo>
                  <a:pt x="22709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4"/>
          <p:cNvSpPr/>
          <p:nvPr/>
        </p:nvSpPr>
        <p:spPr>
          <a:xfrm>
            <a:off x="1835280" y="1989000"/>
            <a:ext cx="6697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isten again. Match the pictures in 2a with the 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24"/>
          <p:cNvGrpSpPr/>
          <p:nvPr/>
        </p:nvGrpSpPr>
        <p:grpSpPr>
          <a:xfrm>
            <a:off x="2843280" y="476280"/>
            <a:ext cx="2952720" cy="993600"/>
            <a:chOff x="2843280" y="476280"/>
            <a:chExt cx="2952720" cy="993600"/>
          </a:xfrm>
        </p:grpSpPr>
        <p:pic>
          <p:nvPicPr>
            <p:cNvPr id="153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2843280" y="476280"/>
              <a:ext cx="29527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7"/>
            <p:cNvSpPr/>
            <p:nvPr/>
          </p:nvSpPr>
          <p:spPr>
            <a:xfrm>
              <a:off x="2843280" y="676080"/>
              <a:ext cx="282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Listen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Oval 2"/>
          <p:cNvSpPr/>
          <p:nvPr/>
        </p:nvSpPr>
        <p:spPr>
          <a:xfrm>
            <a:off x="755640" y="2060640"/>
            <a:ext cx="9000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324000" y="42908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1"/>
          <p:cNvSpPr/>
          <p:nvPr/>
        </p:nvSpPr>
        <p:spPr>
          <a:xfrm>
            <a:off x="2050920" y="42195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6804000" y="41464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5" descr="20090115093006644"/>
          <p:cNvPicPr/>
          <p:nvPr/>
        </p:nvPicPr>
        <p:blipFill>
          <a:blip r:embed="rId3"/>
          <a:stretch/>
        </p:blipFill>
        <p:spPr>
          <a:xfrm>
            <a:off x="7596360" y="3930480"/>
            <a:ext cx="1157040" cy="1106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6"/>
          <p:cNvSpPr/>
          <p:nvPr/>
        </p:nvSpPr>
        <p:spPr>
          <a:xfrm>
            <a:off x="4427640" y="41464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2174400" y="421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518760" y="4290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6927480" y="4146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7" descr="162_G_1255038287339"/>
          <p:cNvPicPr/>
          <p:nvPr/>
        </p:nvPicPr>
        <p:blipFill>
          <a:blip r:embed="rId4"/>
          <a:stretch/>
        </p:blipFill>
        <p:spPr>
          <a:xfrm>
            <a:off x="2855880" y="383076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运动跃动-运动-运动,运动跃动"/>
          <p:cNvPicPr/>
          <p:nvPr/>
        </p:nvPicPr>
        <p:blipFill>
          <a:blip r:embed="rId5"/>
          <a:srcRect l="10707" t="16670" r="7700" b="15364"/>
          <a:stretch/>
        </p:blipFill>
        <p:spPr>
          <a:xfrm>
            <a:off x="5302080" y="3794040"/>
            <a:ext cx="1221120" cy="13874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9" descr="QQ截图20121121140021.jpg"/>
          <p:cNvPicPr/>
          <p:nvPr/>
        </p:nvPicPr>
        <p:blipFill>
          <a:blip r:embed="rId6"/>
          <a:stretch/>
        </p:blipFill>
        <p:spPr>
          <a:xfrm>
            <a:off x="1030320" y="3976560"/>
            <a:ext cx="971640" cy="989280"/>
          </a:xfrm>
          <a:prstGeom prst="rect">
            <a:avLst/>
          </a:prstGeom>
          <a:ln w="0">
            <a:noFill/>
          </a:ln>
        </p:spPr>
      </p:pic>
      <p:sp>
        <p:nvSpPr>
          <p:cNvPr id="167" name="动作按钮: 声音 17"/>
          <p:cNvSpPr/>
          <p:nvPr/>
        </p:nvSpPr>
        <p:spPr>
          <a:xfrm>
            <a:off x="6178680" y="2917800"/>
            <a:ext cx="583920" cy="401760"/>
          </a:xfrm>
          <a:custGeom>
            <a:avLst/>
            <a:gdLst>
              <a:gd name="textAreaLeft" fmla="*/ 25920 w 583920"/>
              <a:gd name="textAreaRight" fmla="*/ 558000 w 58392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31385" h="21600">
                <a:moveTo>
                  <a:pt x="0" y="0"/>
                </a:moveTo>
                <a:lnTo>
                  <a:pt x="31385" y="0"/>
                </a:lnTo>
                <a:lnTo>
                  <a:pt x="31385" y="21600"/>
                </a:lnTo>
                <a:lnTo>
                  <a:pt x="0" y="21600"/>
                </a:lnTo>
                <a:close/>
              </a:path>
              <a:path fill="lightenLess" w="31385" h="21600">
                <a:moveTo>
                  <a:pt x="0" y="0"/>
                </a:moveTo>
                <a:lnTo>
                  <a:pt x="31385" y="0"/>
                </a:lnTo>
                <a:lnTo>
                  <a:pt x="29985" y="1400"/>
                </a:lnTo>
                <a:lnTo>
                  <a:pt x="1400" y="1400"/>
                </a:lnTo>
                <a:close/>
              </a:path>
              <a:path fill="darken" w="31385" h="21600">
                <a:moveTo>
                  <a:pt x="31385" y="0"/>
                </a:moveTo>
                <a:lnTo>
                  <a:pt x="31385" y="21600"/>
                </a:lnTo>
                <a:lnTo>
                  <a:pt x="29985" y="20200"/>
                </a:lnTo>
                <a:lnTo>
                  <a:pt x="29985" y="1400"/>
                </a:lnTo>
                <a:close/>
              </a:path>
              <a:path fill="darkenLess" w="31385" h="21600">
                <a:moveTo>
                  <a:pt x="31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85" y="20200"/>
                </a:lnTo>
                <a:close/>
              </a:path>
              <a:path fill="lighten" w="31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85" h="21600">
                <a:moveTo>
                  <a:pt x="8686" y="8406"/>
                </a:moveTo>
                <a:lnTo>
                  <a:pt x="13116" y="8406"/>
                </a:lnTo>
                <a:lnTo>
                  <a:pt x="17538" y="3794"/>
                </a:lnTo>
                <a:lnTo>
                  <a:pt x="17538" y="17806"/>
                </a:lnTo>
                <a:lnTo>
                  <a:pt x="13116" y="13194"/>
                </a:lnTo>
                <a:lnTo>
                  <a:pt x="8686" y="13194"/>
                </a:lnTo>
                <a:close/>
              </a:path>
              <a:path fill="darken" w="31385" h="21600">
                <a:moveTo>
                  <a:pt x="19191" y="10800"/>
                </a:moveTo>
                <a:lnTo>
                  <a:pt x="22699" y="10800"/>
                </a:lnTo>
              </a:path>
              <a:path fill="darken" w="31385" h="21600">
                <a:moveTo>
                  <a:pt x="19191" y="8406"/>
                </a:moveTo>
                <a:lnTo>
                  <a:pt x="22699" y="5639"/>
                </a:lnTo>
              </a:path>
              <a:path fill="darken" w="31385" h="21600">
                <a:moveTo>
                  <a:pt x="19191" y="13194"/>
                </a:moveTo>
                <a:lnTo>
                  <a:pt x="22699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24"/>
          <p:cNvGrpSpPr/>
          <p:nvPr/>
        </p:nvGrpSpPr>
        <p:grpSpPr>
          <a:xfrm>
            <a:off x="71280" y="360360"/>
            <a:ext cx="2988000" cy="981000"/>
            <a:chOff x="71280" y="360360"/>
            <a:chExt cx="2988000" cy="981000"/>
          </a:xfrm>
        </p:grpSpPr>
        <p:pic>
          <p:nvPicPr>
            <p:cNvPr id="169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71280" y="360360"/>
              <a:ext cx="29880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7"/>
            <p:cNvSpPr/>
            <p:nvPr/>
          </p:nvSpPr>
          <p:spPr>
            <a:xfrm>
              <a:off x="71280" y="556920"/>
              <a:ext cx="285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Transcrip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2"/>
          <p:cNvSpPr/>
          <p:nvPr/>
        </p:nvSpPr>
        <p:spPr>
          <a:xfrm>
            <a:off x="738360" y="2406600"/>
            <a:ext cx="690084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: Do you have a soccer ball, Pa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No, I d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: Does your brother Allen hav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Yes, he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"/>
          <p:cNvSpPr/>
          <p:nvPr/>
        </p:nvSpPr>
        <p:spPr>
          <a:xfrm>
            <a:off x="2271600" y="1238400"/>
            <a:ext cx="47991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versa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030320" y="1822320"/>
            <a:ext cx="722952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: Hi, M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Hi, Joh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: I want to play basketball. Do you have a baske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Yes,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: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"/>
          <p:cNvSpPr/>
          <p:nvPr/>
        </p:nvSpPr>
        <p:spPr>
          <a:xfrm>
            <a:off x="2198520" y="727200"/>
            <a:ext cx="47991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versa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212840" y="1384200"/>
            <a:ext cx="712008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: Hi, Sa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Hi, J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: Sally, this is my friend 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Hi, Anna. Nice to me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: Nice to meet you, S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Let’s play tennis. Do you have a tennis ball, J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: Sorry, I d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"/>
          <p:cNvSpPr/>
          <p:nvPr/>
        </p:nvSpPr>
        <p:spPr>
          <a:xfrm>
            <a:off x="2198520" y="507960"/>
            <a:ext cx="47991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versa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176480" y="2077920"/>
            <a:ext cx="711972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: Do you have a volleyball, D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No, I don’t. But my brother does. Let’s go and fin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"/>
          <p:cNvSpPr/>
          <p:nvPr/>
        </p:nvSpPr>
        <p:spPr>
          <a:xfrm>
            <a:off x="2198520" y="800280"/>
            <a:ext cx="47991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versa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31"/>
          <p:cNvGrpSpPr/>
          <p:nvPr/>
        </p:nvGrpSpPr>
        <p:grpSpPr>
          <a:xfrm>
            <a:off x="1030320" y="1776240"/>
            <a:ext cx="6661080" cy="4172040"/>
            <a:chOff x="1030320" y="1776240"/>
            <a:chExt cx="6661080" cy="4172040"/>
          </a:xfrm>
        </p:grpSpPr>
        <p:pic>
          <p:nvPicPr>
            <p:cNvPr id="180" name="Picture 29" descr="A-2c"/>
            <p:cNvPicPr/>
            <p:nvPr/>
          </p:nvPicPr>
          <p:blipFill>
            <a:blip r:embed="rId2"/>
            <a:stretch/>
          </p:blipFill>
          <p:spPr>
            <a:xfrm>
              <a:off x="1030320" y="1776240"/>
              <a:ext cx="66610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AutoShape 27"/>
            <p:cNvSpPr/>
            <p:nvPr/>
          </p:nvSpPr>
          <p:spPr>
            <a:xfrm>
              <a:off x="3514680" y="4368600"/>
              <a:ext cx="2305080" cy="1476360"/>
            </a:xfrm>
            <a:prstGeom prst="wedgeEllipseCallout">
              <a:avLst>
                <a:gd name="adj1" fmla="val 47314"/>
                <a:gd name="adj2" fmla="val -57310"/>
              </a:avLst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, sh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oesn’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0"/>
            <p:cNvSpPr/>
            <p:nvPr/>
          </p:nvSpPr>
          <p:spPr>
            <a:xfrm>
              <a:off x="2471760" y="1957320"/>
              <a:ext cx="3708360" cy="2124000"/>
            </a:xfrm>
            <a:prstGeom prst="wedgeEllipseCallout">
              <a:avLst>
                <a:gd name="adj1" fmla="val -29324"/>
                <a:gd name="adj2" fmla="val 67712"/>
              </a:avLst>
            </a:prstGeom>
            <a:solidFill>
              <a:srgbClr val="ffffff"/>
            </a:solidFill>
            <a:ln w="763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oes Jane have a tennis ball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2"/>
          <p:cNvSpPr/>
          <p:nvPr/>
        </p:nvSpPr>
        <p:spPr>
          <a:xfrm>
            <a:off x="395280" y="1019160"/>
            <a:ext cx="9000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24"/>
          <p:cNvGrpSpPr/>
          <p:nvPr/>
        </p:nvGrpSpPr>
        <p:grpSpPr>
          <a:xfrm>
            <a:off x="2987640" y="274680"/>
            <a:ext cx="2879640" cy="993600"/>
            <a:chOff x="2987640" y="274680"/>
            <a:chExt cx="2879640" cy="993600"/>
          </a:xfrm>
        </p:grpSpPr>
        <p:pic>
          <p:nvPicPr>
            <p:cNvPr id="185" name="Picture 6" descr="BAN_052"/>
            <p:cNvPicPr/>
            <p:nvPr/>
          </p:nvPicPr>
          <p:blipFill>
            <a:blip r:embed="rId3"/>
            <a:stretch/>
          </p:blipFill>
          <p:spPr>
            <a:xfrm>
              <a:off x="2987640" y="274680"/>
              <a:ext cx="2879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7"/>
            <p:cNvSpPr/>
            <p:nvPr/>
          </p:nvSpPr>
          <p:spPr>
            <a:xfrm>
              <a:off x="2987640" y="474480"/>
              <a:ext cx="275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Pairwor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6"/>
          <p:cNvSpPr/>
          <p:nvPr/>
        </p:nvSpPr>
        <p:spPr>
          <a:xfrm>
            <a:off x="1403280" y="130500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k and answer about the people in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8"/>
          <p:cNvSpPr/>
          <p:nvPr/>
        </p:nvSpPr>
        <p:spPr>
          <a:xfrm>
            <a:off x="555480" y="398520"/>
            <a:ext cx="6097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isten and match the thing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right place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动作按钮: 声音 8"/>
          <p:cNvSpPr/>
          <p:nvPr/>
        </p:nvSpPr>
        <p:spPr>
          <a:xfrm>
            <a:off x="7383600" y="507960"/>
            <a:ext cx="766800" cy="438120"/>
          </a:xfrm>
          <a:custGeom>
            <a:avLst/>
            <a:gdLst>
              <a:gd name="textAreaLeft" fmla="*/ 28080 w 766800"/>
              <a:gd name="textAreaRight" fmla="*/ 738720 w 76680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37791" h="21600">
                <a:moveTo>
                  <a:pt x="0" y="0"/>
                </a:moveTo>
                <a:lnTo>
                  <a:pt x="37791" y="0"/>
                </a:lnTo>
                <a:lnTo>
                  <a:pt x="37791" y="21600"/>
                </a:lnTo>
                <a:lnTo>
                  <a:pt x="0" y="21600"/>
                </a:lnTo>
                <a:close/>
              </a:path>
              <a:path fill="lightenLess" w="37791" h="21600">
                <a:moveTo>
                  <a:pt x="0" y="0"/>
                </a:moveTo>
                <a:lnTo>
                  <a:pt x="37791" y="0"/>
                </a:lnTo>
                <a:lnTo>
                  <a:pt x="36391" y="1400"/>
                </a:lnTo>
                <a:lnTo>
                  <a:pt x="1400" y="1400"/>
                </a:lnTo>
                <a:close/>
              </a:path>
              <a:path fill="darken" w="37791" h="21600">
                <a:moveTo>
                  <a:pt x="37791" y="0"/>
                </a:moveTo>
                <a:lnTo>
                  <a:pt x="37791" y="21600"/>
                </a:lnTo>
                <a:lnTo>
                  <a:pt x="36391" y="20200"/>
                </a:lnTo>
                <a:lnTo>
                  <a:pt x="36391" y="1400"/>
                </a:lnTo>
                <a:close/>
              </a:path>
              <a:path fill="darkenLess" w="37791" h="21600">
                <a:moveTo>
                  <a:pt x="3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1" y="20200"/>
                </a:lnTo>
                <a:close/>
              </a:path>
              <a:path fill="lighten" w="3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1" h="21600">
                <a:moveTo>
                  <a:pt x="11889" y="8406"/>
                </a:moveTo>
                <a:lnTo>
                  <a:pt x="16319" y="8406"/>
                </a:lnTo>
                <a:lnTo>
                  <a:pt x="20741" y="3794"/>
                </a:lnTo>
                <a:lnTo>
                  <a:pt x="20741" y="17806"/>
                </a:lnTo>
                <a:lnTo>
                  <a:pt x="16319" y="13194"/>
                </a:lnTo>
                <a:lnTo>
                  <a:pt x="11889" y="13194"/>
                </a:lnTo>
                <a:close/>
              </a:path>
              <a:path fill="darken" w="37791" h="21600">
                <a:moveTo>
                  <a:pt x="22394" y="10800"/>
                </a:moveTo>
                <a:lnTo>
                  <a:pt x="25902" y="10800"/>
                </a:lnTo>
              </a:path>
              <a:path fill="darken" w="37791" h="21600">
                <a:moveTo>
                  <a:pt x="22394" y="8406"/>
                </a:moveTo>
                <a:lnTo>
                  <a:pt x="25902" y="5639"/>
                </a:lnTo>
              </a:path>
              <a:path fill="darken" w="37791" h="21600">
                <a:moveTo>
                  <a:pt x="22394" y="13194"/>
                </a:moveTo>
                <a:lnTo>
                  <a:pt x="25902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27160" y="353844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elen’s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1797120" y="25160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l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3513240" y="1895400"/>
            <a:ext cx="2500200" cy="3332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 flipV="1">
            <a:off x="3257640" y="3430080"/>
            <a:ext cx="2682720" cy="47340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6"/>
          <p:cNvSpPr/>
          <p:nvPr/>
        </p:nvSpPr>
        <p:spPr>
          <a:xfrm flipV="1">
            <a:off x="3951360" y="2278080"/>
            <a:ext cx="2060640" cy="56664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1687680" y="15667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8" descr="学生"/>
          <p:cNvPicPr/>
          <p:nvPr/>
        </p:nvPicPr>
        <p:blipFill>
          <a:blip r:embed="rId2"/>
          <a:stretch/>
        </p:blipFill>
        <p:spPr>
          <a:xfrm>
            <a:off x="592200" y="2479680"/>
            <a:ext cx="1003320" cy="1198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9"/>
          <p:cNvSpPr/>
          <p:nvPr/>
        </p:nvSpPr>
        <p:spPr>
          <a:xfrm>
            <a:off x="1979640" y="346536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ket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0" descr="棒球"/>
          <p:cNvPicPr/>
          <p:nvPr/>
        </p:nvPicPr>
        <p:blipFill>
          <a:blip r:embed="rId3"/>
          <a:stretch/>
        </p:blipFill>
        <p:spPr>
          <a:xfrm>
            <a:off x="6084720" y="1414440"/>
            <a:ext cx="573120" cy="1347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1" descr="椅子"/>
          <p:cNvPicPr/>
          <p:nvPr/>
        </p:nvPicPr>
        <p:blipFill>
          <a:blip r:embed="rId4"/>
          <a:stretch/>
        </p:blipFill>
        <p:spPr>
          <a:xfrm>
            <a:off x="5923080" y="2844720"/>
            <a:ext cx="749160" cy="974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2"/>
          <p:cNvSpPr/>
          <p:nvPr/>
        </p:nvSpPr>
        <p:spPr>
          <a:xfrm>
            <a:off x="2016000" y="467028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2" descr="HH02315_"/>
          <p:cNvPicPr/>
          <p:nvPr/>
        </p:nvPicPr>
        <p:blipFill>
          <a:blip r:embed="rId5"/>
          <a:stretch/>
        </p:blipFill>
        <p:spPr>
          <a:xfrm>
            <a:off x="5996160" y="4670280"/>
            <a:ext cx="1029960" cy="1143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4"/>
          <p:cNvSpPr/>
          <p:nvPr/>
        </p:nvSpPr>
        <p:spPr>
          <a:xfrm>
            <a:off x="5923080" y="3976560"/>
            <a:ext cx="24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e don’t know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 flipV="1">
            <a:off x="2746440" y="4378320"/>
            <a:ext cx="3176640" cy="62064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1" descr="26-4"/>
          <p:cNvPicPr/>
          <p:nvPr/>
        </p:nvPicPr>
        <p:blipFill>
          <a:blip r:embed="rId2"/>
          <a:stretch/>
        </p:blipFill>
        <p:spPr>
          <a:xfrm>
            <a:off x="6543720" y="1689120"/>
            <a:ext cx="2360520" cy="1558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71280" y="333360"/>
            <a:ext cx="622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4d"/>
                </a:solidFill>
                <a:latin typeface="Arial"/>
                <a:ea typeface="微软雅黑"/>
              </a:rPr>
              <a:t>2d Role-play the conver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动作按钮: 声音 4">
            <a:hlinkClick r:id="rId3"/>
          </p:cNvPr>
          <p:cNvSpPr/>
          <p:nvPr/>
        </p:nvSpPr>
        <p:spPr>
          <a:xfrm>
            <a:off x="7054920" y="507960"/>
            <a:ext cx="547560" cy="365040"/>
          </a:xfrm>
          <a:custGeom>
            <a:avLst/>
            <a:gdLst>
              <a:gd name="textAreaLeft" fmla="*/ 23400 w 547560"/>
              <a:gd name="textAreaRight" fmla="*/ 524160 w 54756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32389" h="21600">
                <a:moveTo>
                  <a:pt x="0" y="0"/>
                </a:moveTo>
                <a:lnTo>
                  <a:pt x="32389" y="0"/>
                </a:lnTo>
                <a:lnTo>
                  <a:pt x="32389" y="21600"/>
                </a:lnTo>
                <a:lnTo>
                  <a:pt x="0" y="21600"/>
                </a:lnTo>
                <a:close/>
              </a:path>
              <a:path fill="lightenLess" w="32389" h="21600">
                <a:moveTo>
                  <a:pt x="0" y="0"/>
                </a:moveTo>
                <a:lnTo>
                  <a:pt x="32389" y="0"/>
                </a:lnTo>
                <a:lnTo>
                  <a:pt x="30989" y="1400"/>
                </a:lnTo>
                <a:lnTo>
                  <a:pt x="1400" y="1400"/>
                </a:lnTo>
                <a:close/>
              </a:path>
              <a:path fill="darken" w="32389" h="21600">
                <a:moveTo>
                  <a:pt x="32389" y="0"/>
                </a:moveTo>
                <a:lnTo>
                  <a:pt x="32389" y="21600"/>
                </a:lnTo>
                <a:lnTo>
                  <a:pt x="30989" y="20200"/>
                </a:lnTo>
                <a:lnTo>
                  <a:pt x="30989" y="1400"/>
                </a:lnTo>
                <a:close/>
              </a:path>
              <a:path fill="darkenLess" w="32389" h="21600">
                <a:moveTo>
                  <a:pt x="32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9" y="20200"/>
                </a:lnTo>
                <a:close/>
              </a:path>
              <a:path fill="lighten" w="32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9" h="21600">
                <a:moveTo>
                  <a:pt x="9188" y="8406"/>
                </a:moveTo>
                <a:lnTo>
                  <a:pt x="13618" y="8406"/>
                </a:lnTo>
                <a:lnTo>
                  <a:pt x="18040" y="3794"/>
                </a:lnTo>
                <a:lnTo>
                  <a:pt x="18040" y="17806"/>
                </a:lnTo>
                <a:lnTo>
                  <a:pt x="13618" y="13194"/>
                </a:lnTo>
                <a:lnTo>
                  <a:pt x="9188" y="13194"/>
                </a:lnTo>
                <a:close/>
              </a:path>
              <a:path fill="darken" w="32389" h="21600">
                <a:moveTo>
                  <a:pt x="19694" y="10800"/>
                </a:moveTo>
                <a:lnTo>
                  <a:pt x="23201" y="10800"/>
                </a:lnTo>
              </a:path>
              <a:path fill="darken" w="32389" h="21600">
                <a:moveTo>
                  <a:pt x="19694" y="8406"/>
                </a:moveTo>
                <a:lnTo>
                  <a:pt x="23201" y="5639"/>
                </a:lnTo>
              </a:path>
              <a:path fill="darken" w="32389" h="21600">
                <a:moveTo>
                  <a:pt x="19694" y="13194"/>
                </a:moveTo>
                <a:lnTo>
                  <a:pt x="23201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495360" y="982800"/>
            <a:ext cx="856764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Hey, Helen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t’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go! We’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at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Do you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base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Yes, I do. It’s in my b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And where’s our baseball b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Bill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Oh, yeah. And do you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your jac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Oh, no, I don’t. It’s on the chair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t me get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And your hat,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OK, I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y jacket and hat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t’s g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108000" y="1268280"/>
            <a:ext cx="889308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have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作动词，意为“有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拥有”，一般指某人拥有某物，侧重于所属关系。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其第三人称单数形式是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has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常用句式：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某人 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+ have/has + 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某物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，如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I 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have</a:t>
            </a: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 a good friend. </a:t>
            </a: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我有一个好朋友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She 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has</a:t>
            </a: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 a new pen. </a:t>
            </a: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她有一支新钢笔。</a:t>
            </a:r>
            <a:r>
              <a:rPr b="0" lang="zh-CN" sz="3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4"/>
          <p:cNvGrpSpPr/>
          <p:nvPr/>
        </p:nvGrpSpPr>
        <p:grpSpPr>
          <a:xfrm>
            <a:off x="2556000" y="260280"/>
            <a:ext cx="3779640" cy="993960"/>
            <a:chOff x="2556000" y="260280"/>
            <a:chExt cx="3779640" cy="993960"/>
          </a:xfrm>
        </p:grpSpPr>
        <p:pic>
          <p:nvPicPr>
            <p:cNvPr id="210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2556000" y="260280"/>
              <a:ext cx="3779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7"/>
            <p:cNvSpPr/>
            <p:nvPr/>
          </p:nvSpPr>
          <p:spPr>
            <a:xfrm>
              <a:off x="2556000" y="460080"/>
              <a:ext cx="361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Explan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tennis racket"/>
          <p:cNvPicPr/>
          <p:nvPr/>
        </p:nvPicPr>
        <p:blipFill>
          <a:blip r:embed="rId2"/>
          <a:stretch/>
        </p:blipFill>
        <p:spPr>
          <a:xfrm>
            <a:off x="701640" y="4451400"/>
            <a:ext cx="1663560" cy="1231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666720" y="163980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150360" y="165564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socc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071760" y="163980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volley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20560" y="3830760"/>
            <a:ext cx="22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enni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65320" y="561960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enni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r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777280" y="5473800"/>
            <a:ext cx="29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ping-pong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baseball bat"/>
          <p:cNvPicPr/>
          <p:nvPr/>
        </p:nvPicPr>
        <p:blipFill>
          <a:blip r:embed="rId3"/>
          <a:stretch/>
        </p:blipFill>
        <p:spPr>
          <a:xfrm rot="414600">
            <a:off x="3414240" y="4545000"/>
            <a:ext cx="1617840" cy="8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u=401679457,3192129651&amp;gp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70640" y="2370240"/>
            <a:ext cx="1365120" cy="1201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5631840" y="3684600"/>
            <a:ext cx="30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ping-pong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32160" y="37209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098520" y="551016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aseball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bc4a1223-77ec-4c23-bbdf-1ccb0cf651c5"/>
          <p:cNvPicPr/>
          <p:nvPr/>
        </p:nvPicPr>
        <p:blipFill>
          <a:blip r:embed="rId6"/>
          <a:stretch/>
        </p:blipFill>
        <p:spPr>
          <a:xfrm>
            <a:off x="6324480" y="4341960"/>
            <a:ext cx="1616040" cy="1211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526248wq2_024"/>
          <p:cNvPicPr/>
          <p:nvPr/>
        </p:nvPicPr>
        <p:blipFill>
          <a:blip r:embed="rId7"/>
          <a:srcRect l="0" t="0" r="0" b="37804"/>
          <a:stretch/>
        </p:blipFill>
        <p:spPr>
          <a:xfrm>
            <a:off x="811080" y="2370240"/>
            <a:ext cx="1509840" cy="142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4c2c542b3cab86d199250aa7"/>
          <p:cNvPicPr/>
          <p:nvPr/>
        </p:nvPicPr>
        <p:blipFill>
          <a:blip r:embed="rId8"/>
          <a:stretch/>
        </p:blipFill>
        <p:spPr>
          <a:xfrm>
            <a:off x="811080" y="28908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0" descr="mikasa_volleyballs_mva200_3.jpg"/>
          <p:cNvPicPr/>
          <p:nvPr/>
        </p:nvPicPr>
        <p:blipFill>
          <a:blip r:embed="rId9"/>
          <a:stretch/>
        </p:blipFill>
        <p:spPr>
          <a:xfrm>
            <a:off x="6288120" y="325440"/>
            <a:ext cx="1374840" cy="137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运动跃动-运动-运动,运动跃动"/>
          <p:cNvPicPr/>
          <p:nvPr/>
        </p:nvPicPr>
        <p:blipFill>
          <a:blip r:embed="rId10"/>
          <a:srcRect l="10707" t="16670" r="7700" b="15364"/>
          <a:stretch/>
        </p:blipFill>
        <p:spPr>
          <a:xfrm>
            <a:off x="3549600" y="361800"/>
            <a:ext cx="1220760" cy="13878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2" descr="QQ截图20121121140021.jpg"/>
          <p:cNvPicPr/>
          <p:nvPr/>
        </p:nvPicPr>
        <p:blipFill>
          <a:blip r:embed="rId11"/>
          <a:stretch/>
        </p:blipFill>
        <p:spPr>
          <a:xfrm>
            <a:off x="3476520" y="2333520"/>
            <a:ext cx="1365480" cy="139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2" descr="2255"/>
          <p:cNvPicPr/>
          <p:nvPr/>
        </p:nvPicPr>
        <p:blipFill>
          <a:blip r:embed="rId2"/>
          <a:stretch/>
        </p:blipFill>
        <p:spPr>
          <a:xfrm>
            <a:off x="6799320" y="1494000"/>
            <a:ext cx="1882800" cy="1503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574560" y="2406600"/>
            <a:ext cx="856944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人称代词主格，意为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主语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are good friends.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我们是好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have a new soccer b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我们有一只新足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 flipH="1">
            <a:off x="2227320" y="992160"/>
            <a:ext cx="1913040" cy="331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263520" y="581040"/>
            <a:ext cx="835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late: 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迟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9900ff"/>
                </a:solidFill>
                <a:latin typeface="Times New Roman"/>
              </a:rPr>
              <a:t>adj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e lat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9"/>
          <p:cNvSpPr/>
          <p:nvPr/>
        </p:nvSpPr>
        <p:spPr>
          <a:xfrm>
            <a:off x="519120" y="1274760"/>
            <a:ext cx="6827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Jim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 always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late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吉姆总是迟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3" descr="A0523"/>
          <p:cNvPicPr/>
          <p:nvPr/>
        </p:nvPicPr>
        <p:blipFill>
          <a:blip r:embed="rId3"/>
          <a:stretch/>
        </p:blipFill>
        <p:spPr>
          <a:xfrm>
            <a:off x="6470640" y="4268880"/>
            <a:ext cx="1407960" cy="130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78920" y="398520"/>
            <a:ext cx="84819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us  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们”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式，放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词或动词后作宾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lik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ou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room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喜欢我们的的房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at 457-328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我们打电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57-328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"/>
          <p:cNvSpPr/>
          <p:nvPr/>
        </p:nvSpPr>
        <p:spPr>
          <a:xfrm>
            <a:off x="482760" y="1676520"/>
            <a:ext cx="765324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【辨析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e / us /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e 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我们” 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称代词主格形式，作主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us 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我们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称代词宾格形式，作宾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our 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我们的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容词性物主代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36600" y="50796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以动词</a:t>
            </a:r>
            <a:r>
              <a:rPr b="1" lang="zh-CN" sz="3400" spc="-1" strike="noStrike">
                <a:solidFill>
                  <a:srgbClr val="c00000"/>
                </a:solidFill>
                <a:latin typeface="Times New Roman"/>
              </a:rPr>
              <a:t>let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开头的祈使句，一般用于向别人提建议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c00000"/>
                </a:solidFill>
                <a:latin typeface="Times New Roman"/>
              </a:rPr>
              <a:t>基本结构：</a:t>
            </a:r>
            <a:r>
              <a:rPr b="1" lang="zh-CN" sz="3400" spc="-1" strike="noStrike">
                <a:solidFill>
                  <a:srgbClr val="c00000"/>
                </a:solidFill>
                <a:latin typeface="Times New Roman"/>
              </a:rPr>
              <a:t>let sb. do sth.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，表示 “</a:t>
            </a: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让某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人做某事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” 。其中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sb.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可由</a:t>
            </a:r>
            <a:r>
              <a:rPr b="1" lang="zh-CN" sz="3400" spc="-1" strike="noStrike">
                <a:solidFill>
                  <a:srgbClr val="c00000"/>
                </a:solidFill>
                <a:latin typeface="Times New Roman"/>
              </a:rPr>
              <a:t>名词或代词宾格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来充当，其后的动词要用</a:t>
            </a:r>
            <a:r>
              <a:rPr b="1" lang="zh-CN" sz="3400" spc="-1" strike="noStrike">
                <a:solidFill>
                  <a:srgbClr val="c00000"/>
                </a:solidFill>
                <a:latin typeface="Times New Roman"/>
              </a:rPr>
              <a:t>动词原形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 the boy </a:t>
            </a: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try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让这个男孩试试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him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guess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让他猜一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zh-CN" sz="3400" spc="-1" strike="noStrike">
                <a:solidFill>
                  <a:srgbClr val="c00000"/>
                </a:solidFill>
                <a:latin typeface="Times New Roman"/>
              </a:rPr>
              <a:t>her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do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it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让她来做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99520" y="333360"/>
            <a:ext cx="8425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let’s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let us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的缩写，意为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咱们一起……吧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”，通常表示建议、请求或命令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肯定回答：</a:t>
            </a:r>
            <a:r>
              <a:rPr b="1" lang="zh-CN" sz="3400" spc="-1" strike="noStrike">
                <a:solidFill>
                  <a:srgbClr val="009999"/>
                </a:solidFill>
                <a:latin typeface="Times New Roman"/>
              </a:rPr>
              <a:t> “</a:t>
            </a:r>
            <a:r>
              <a:rPr b="1" lang="zh-CN" sz="3400" spc="-1" strike="noStrike">
                <a:solidFill>
                  <a:srgbClr val="009999"/>
                </a:solidFill>
                <a:latin typeface="Times New Roman"/>
              </a:rPr>
              <a:t>OK”</a:t>
            </a:r>
            <a:r>
              <a:rPr b="1" lang="zh-CN" sz="3400" spc="-1" strike="noStrike">
                <a:solidFill>
                  <a:srgbClr val="009999"/>
                </a:solidFill>
                <a:latin typeface="Times New Roman"/>
              </a:rPr>
              <a:t>，“</a:t>
            </a:r>
            <a:r>
              <a:rPr b="1" lang="zh-CN" sz="3400" spc="-1" strike="noStrike">
                <a:solidFill>
                  <a:srgbClr val="009999"/>
                </a:solidFill>
                <a:latin typeface="Times New Roman"/>
              </a:rPr>
              <a:t>All right” </a:t>
            </a:r>
            <a:r>
              <a:rPr b="1" lang="zh-CN" sz="3400" spc="-1" strike="noStrike">
                <a:solidFill>
                  <a:srgbClr val="003399"/>
                </a:solidFill>
                <a:latin typeface="Times New Roman"/>
              </a:rPr>
              <a:t>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ff"/>
                </a:solidFill>
                <a:latin typeface="Times New Roman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否定回答：</a:t>
            </a:r>
            <a:r>
              <a:rPr b="1" lang="zh-CN" sz="3400" spc="-1" strike="noStrike">
                <a:solidFill>
                  <a:srgbClr val="009999"/>
                </a:solidFill>
                <a:latin typeface="Times New Roman"/>
              </a:rPr>
              <a:t> “</a:t>
            </a:r>
            <a:r>
              <a:rPr b="1" lang="zh-CN" sz="3400" spc="-1" strike="noStrike">
                <a:solidFill>
                  <a:srgbClr val="009999"/>
                </a:solidFill>
                <a:latin typeface="Times New Roman"/>
              </a:rPr>
              <a:t>Sorry, I …”</a:t>
            </a:r>
            <a:r>
              <a:rPr b="1" lang="zh-CN" sz="3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9900ff"/>
                </a:solidFill>
                <a:latin typeface="Times New Roman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如：—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Let’s go!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让我们走吧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—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OK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好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Let’s play socce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让我们踢足球吧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1" descr="26-4"/>
          <p:cNvPicPr/>
          <p:nvPr/>
        </p:nvPicPr>
        <p:blipFill>
          <a:blip r:embed="rId2"/>
          <a:stretch/>
        </p:blipFill>
        <p:spPr>
          <a:xfrm>
            <a:off x="6543720" y="1689120"/>
            <a:ext cx="2360520" cy="1558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71280" y="333360"/>
            <a:ext cx="622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4d"/>
                </a:solidFill>
                <a:latin typeface="Arial"/>
                <a:ea typeface="微软雅黑"/>
              </a:rPr>
              <a:t>2d Role-play the conver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动作按钮: 声音 4">
            <a:hlinkClick r:id="rId3"/>
          </p:cNvPr>
          <p:cNvSpPr/>
          <p:nvPr/>
        </p:nvSpPr>
        <p:spPr>
          <a:xfrm>
            <a:off x="7054920" y="507960"/>
            <a:ext cx="547560" cy="365040"/>
          </a:xfrm>
          <a:custGeom>
            <a:avLst/>
            <a:gdLst>
              <a:gd name="textAreaLeft" fmla="*/ 23400 w 547560"/>
              <a:gd name="textAreaRight" fmla="*/ 524160 w 54756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32389" h="21600">
                <a:moveTo>
                  <a:pt x="0" y="0"/>
                </a:moveTo>
                <a:lnTo>
                  <a:pt x="32389" y="0"/>
                </a:lnTo>
                <a:lnTo>
                  <a:pt x="32389" y="21600"/>
                </a:lnTo>
                <a:lnTo>
                  <a:pt x="0" y="21600"/>
                </a:lnTo>
                <a:close/>
              </a:path>
              <a:path fill="lightenLess" w="32389" h="21600">
                <a:moveTo>
                  <a:pt x="0" y="0"/>
                </a:moveTo>
                <a:lnTo>
                  <a:pt x="32389" y="0"/>
                </a:lnTo>
                <a:lnTo>
                  <a:pt x="30989" y="1400"/>
                </a:lnTo>
                <a:lnTo>
                  <a:pt x="1400" y="1400"/>
                </a:lnTo>
                <a:close/>
              </a:path>
              <a:path fill="darken" w="32389" h="21600">
                <a:moveTo>
                  <a:pt x="32389" y="0"/>
                </a:moveTo>
                <a:lnTo>
                  <a:pt x="32389" y="21600"/>
                </a:lnTo>
                <a:lnTo>
                  <a:pt x="30989" y="20200"/>
                </a:lnTo>
                <a:lnTo>
                  <a:pt x="30989" y="1400"/>
                </a:lnTo>
                <a:close/>
              </a:path>
              <a:path fill="darkenLess" w="32389" h="21600">
                <a:moveTo>
                  <a:pt x="32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9" y="20200"/>
                </a:lnTo>
                <a:close/>
              </a:path>
              <a:path fill="lighten" w="32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9" h="21600">
                <a:moveTo>
                  <a:pt x="9188" y="8406"/>
                </a:moveTo>
                <a:lnTo>
                  <a:pt x="13618" y="8406"/>
                </a:lnTo>
                <a:lnTo>
                  <a:pt x="18040" y="3794"/>
                </a:lnTo>
                <a:lnTo>
                  <a:pt x="18040" y="17806"/>
                </a:lnTo>
                <a:lnTo>
                  <a:pt x="13618" y="13194"/>
                </a:lnTo>
                <a:lnTo>
                  <a:pt x="9188" y="13194"/>
                </a:lnTo>
                <a:close/>
              </a:path>
              <a:path fill="darken" w="32389" h="21600">
                <a:moveTo>
                  <a:pt x="19694" y="10800"/>
                </a:moveTo>
                <a:lnTo>
                  <a:pt x="23201" y="10800"/>
                </a:lnTo>
              </a:path>
              <a:path fill="darken" w="32389" h="21600">
                <a:moveTo>
                  <a:pt x="19694" y="8406"/>
                </a:moveTo>
                <a:lnTo>
                  <a:pt x="23201" y="5639"/>
                </a:lnTo>
              </a:path>
              <a:path fill="darken" w="32389" h="21600">
                <a:moveTo>
                  <a:pt x="19694" y="13194"/>
                </a:moveTo>
                <a:lnTo>
                  <a:pt x="23201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95360" y="982800"/>
            <a:ext cx="856764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Hey, Helen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t’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go! We’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at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Do you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base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Yes, I do. It’s in my b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And where’s our baseball b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Bill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Oh, yeah. And do you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your jac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Oh, no, I don’t. It’s on the chair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t me get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And your hat,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OK, I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y jacket and hat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t’s g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555480" y="1457280"/>
            <a:ext cx="8244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let us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缩写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                        _______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do not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缩写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                     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. have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三人称单数形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4. we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宾格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                            _______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. on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反义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                       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6. we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形容词性物主代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  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7. don’t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三人称单数形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_______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361200" y="2077920"/>
            <a:ext cx="129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434280" y="273528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6086520" y="4078440"/>
            <a:ext cx="143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6299280" y="1455840"/>
            <a:ext cx="1082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22160" y="549360"/>
            <a:ext cx="665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按要求写出正确的单词或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470640" y="3392640"/>
            <a:ext cx="647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230880" y="4767120"/>
            <a:ext cx="934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6324480" y="5337000"/>
            <a:ext cx="1989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828720" y="444600"/>
            <a:ext cx="575928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棒球拍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让我们走吧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0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们迟到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让我去拿它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2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贝尔有个排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332000" y="1709640"/>
            <a:ext cx="331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et’s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549440" y="3108240"/>
            <a:ext cx="309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e’re 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2916360" y="414360"/>
            <a:ext cx="2663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aseball b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547640" y="4405320"/>
            <a:ext cx="316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et me ge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476360" y="5702400"/>
            <a:ext cx="453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ill has a volleyball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老师"/>
          <p:cNvPicPr/>
          <p:nvPr/>
        </p:nvPicPr>
        <p:blipFill>
          <a:blip r:embed="rId2"/>
          <a:srcRect l="0" t="2676" r="0" b="0"/>
          <a:stretch/>
        </p:blipFill>
        <p:spPr>
          <a:xfrm>
            <a:off x="6013440" y="1236600"/>
            <a:ext cx="259092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8" descr="tennis ball"/>
          <p:cNvPicPr/>
          <p:nvPr/>
        </p:nvPicPr>
        <p:blipFill>
          <a:blip r:embed="rId2"/>
          <a:stretch/>
        </p:blipFill>
        <p:spPr>
          <a:xfrm>
            <a:off x="6653160" y="3502080"/>
            <a:ext cx="1427040" cy="1046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截屏015"/>
          <p:cNvPicPr/>
          <p:nvPr/>
        </p:nvPicPr>
        <p:blipFill>
          <a:blip r:embed="rId3"/>
          <a:stretch/>
        </p:blipFill>
        <p:spPr>
          <a:xfrm rot="3511200">
            <a:off x="431280" y="3965760"/>
            <a:ext cx="1814400" cy="382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2011_8_12_11_40_12_3933"/>
          <p:cNvPicPr/>
          <p:nvPr/>
        </p:nvPicPr>
        <p:blipFill>
          <a:blip r:embed="rId4"/>
          <a:stretch/>
        </p:blipFill>
        <p:spPr>
          <a:xfrm>
            <a:off x="464508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162_G_1255038287339"/>
          <p:cNvPicPr/>
          <p:nvPr/>
        </p:nvPicPr>
        <p:blipFill>
          <a:blip r:embed="rId5"/>
          <a:stretch/>
        </p:blipFill>
        <p:spPr>
          <a:xfrm>
            <a:off x="811080" y="174960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7" descr="20090115093006644"/>
          <p:cNvPicPr/>
          <p:nvPr/>
        </p:nvPicPr>
        <p:blipFill>
          <a:blip r:embed="rId6"/>
          <a:stretch/>
        </p:blipFill>
        <p:spPr>
          <a:xfrm>
            <a:off x="4937040" y="1530360"/>
            <a:ext cx="1157400" cy="11066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8"/>
          <p:cNvSpPr/>
          <p:nvPr/>
        </p:nvSpPr>
        <p:spPr>
          <a:xfrm>
            <a:off x="190440" y="982800"/>
            <a:ext cx="7848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 看图说出下列物品的英语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24"/>
          <p:cNvGrpSpPr/>
          <p:nvPr/>
        </p:nvGrpSpPr>
        <p:grpSpPr>
          <a:xfrm>
            <a:off x="3166920" y="115920"/>
            <a:ext cx="3267360" cy="920880"/>
            <a:chOff x="3166920" y="115920"/>
            <a:chExt cx="3267360" cy="920880"/>
          </a:xfrm>
        </p:grpSpPr>
        <p:pic>
          <p:nvPicPr>
            <p:cNvPr id="249" name="Picture 6" descr="BAN_052"/>
            <p:cNvPicPr/>
            <p:nvPr/>
          </p:nvPicPr>
          <p:blipFill>
            <a:blip r:embed="rId7"/>
            <a:stretch/>
          </p:blipFill>
          <p:spPr>
            <a:xfrm>
              <a:off x="3166920" y="115920"/>
              <a:ext cx="3267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17"/>
            <p:cNvSpPr/>
            <p:nvPr/>
          </p:nvSpPr>
          <p:spPr>
            <a:xfrm>
              <a:off x="3272400" y="301680"/>
              <a:ext cx="312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Exercis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22"/>
          <p:cNvSpPr/>
          <p:nvPr/>
        </p:nvSpPr>
        <p:spPr>
          <a:xfrm>
            <a:off x="482760" y="2771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2527200" y="2808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occer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4572000" y="2808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6799320" y="2844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as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555480" y="5145120"/>
            <a:ext cx="19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aseball 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2162160" y="47116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ing-pong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4316400" y="470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ing-pong 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6616800" y="470700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ennis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4" descr="http://pic1.nipic.com/2008-09-03/200893113618272_2.jpg"/>
          <p:cNvPicPr/>
          <p:nvPr/>
        </p:nvPicPr>
        <p:blipFill>
          <a:blip r:embed="rId8"/>
          <a:stretch/>
        </p:blipFill>
        <p:spPr>
          <a:xfrm>
            <a:off x="2527200" y="3575160"/>
            <a:ext cx="1222560" cy="9363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22" descr="QQ截图20121121140021.jpg"/>
          <p:cNvPicPr/>
          <p:nvPr/>
        </p:nvPicPr>
        <p:blipFill>
          <a:blip r:embed="rId9"/>
          <a:stretch/>
        </p:blipFill>
        <p:spPr>
          <a:xfrm>
            <a:off x="6799320" y="1749600"/>
            <a:ext cx="934920" cy="952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1" descr="Soccer"/>
          <p:cNvPicPr/>
          <p:nvPr/>
        </p:nvPicPr>
        <p:blipFill>
          <a:blip r:embed="rId10"/>
          <a:stretch/>
        </p:blipFill>
        <p:spPr>
          <a:xfrm>
            <a:off x="2709720" y="167652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74720" y="471600"/>
            <a:ext cx="770400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、 句型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. Do you have a map? 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your brothe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替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y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. Does Mary have a dictionary? 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作否定回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Does she have her eraser? 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变为复数形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. Does he have a volleyball? 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e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5. I have a nice ping-pong bat. 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来代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______ _______ a nice ping pong 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77880" y="1681200"/>
            <a:ext cx="6973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es your brother have a m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84280" y="2792520"/>
            <a:ext cx="2658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, she does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440720" y="3705120"/>
            <a:ext cx="4324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they have their eras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030320" y="4691160"/>
            <a:ext cx="4929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we have a volley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319040" y="5567400"/>
            <a:ext cx="237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he       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561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三、 根据汉语提示完成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195560"/>
            <a:ext cx="85690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你有一只棒球棒吗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_____ you ______ a baseball _____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埃里克有一个网球吗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_____ Eric ______ a  _______ bal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戴尔有一个足球和一个排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Dale _____ a ______ ball and a 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我有一个篮球和一只乒乓球拍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I _____ a _________ and a ping pong 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01040" y="2165400"/>
            <a:ext cx="9795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900000" y="1779480"/>
            <a:ext cx="30355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Do            ha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684360" y="3068640"/>
            <a:ext cx="611964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Does            have         tenn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835280" y="4299120"/>
            <a:ext cx="68403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has       soccer                    volleyba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46640" y="5524560"/>
            <a:ext cx="41662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have     basketba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084720" y="1779480"/>
            <a:ext cx="10083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b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7667640" y="5516640"/>
            <a:ext cx="11523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b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3951360" y="1822320"/>
            <a:ext cx="4929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______ you _______ a baseball b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Yes, I _______ . I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3797280" y="617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______ a baseball b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3" descr="c577ae373bc50370a51c7a1aad869da9.jpg"/>
          <p:cNvPicPr/>
          <p:nvPr/>
        </p:nvPicPr>
        <p:blipFill>
          <a:blip r:embed="rId2"/>
          <a:stretch/>
        </p:blipFill>
        <p:spPr>
          <a:xfrm>
            <a:off x="299880" y="946080"/>
            <a:ext cx="3300480" cy="4998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189320" y="9828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156200" y="17128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580080" y="17496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667480" y="310032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951360" y="3903840"/>
            <a:ext cx="4929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______ you _______ a base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No, I _______ . I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156200" y="38307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580080" y="38671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156280" y="52182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9" descr="88ff1ac419b8a83182e450a639919558.jpg"/>
          <p:cNvPicPr/>
          <p:nvPr/>
        </p:nvPicPr>
        <p:blipFill>
          <a:blip r:embed="rId2"/>
          <a:srcRect l="9789" t="2565" r="3005" b="0"/>
          <a:stretch/>
        </p:blipFill>
        <p:spPr>
          <a:xfrm>
            <a:off x="336600" y="982800"/>
            <a:ext cx="3322440" cy="4157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951360" y="1932120"/>
            <a:ext cx="49291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______ Yao Ming _______ a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asketball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Yes, he _______ . He ______  a basket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133880" y="18954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170240" y="24796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776920" y="3429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3797280" y="617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This is Yao 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He _____ a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564080" y="9828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097160" y="4049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3841920" y="654120"/>
            <a:ext cx="515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s is Li 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he ____ a tennis r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024440" y="1676520"/>
            <a:ext cx="49291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______ Li Na _______ a soccer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_____, she 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She _____  _____ a soccer 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280040" y="16034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280040" y="22971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397560" y="3794040"/>
            <a:ext cx="24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e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316400" y="385272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5" descr="41e881ec57d48dcf38809e76a332575f.jpg"/>
          <p:cNvPicPr/>
          <p:nvPr/>
        </p:nvPicPr>
        <p:blipFill>
          <a:blip r:embed="rId2"/>
          <a:stretch/>
        </p:blipFill>
        <p:spPr>
          <a:xfrm>
            <a:off x="372960" y="654120"/>
            <a:ext cx="3297240" cy="4709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718160" y="10191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827600" y="4633920"/>
            <a:ext cx="18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e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672240" y="4662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8" descr="c44459e292f06ec06a161f502bc789e1.jpg"/>
          <p:cNvPicPr/>
          <p:nvPr/>
        </p:nvPicPr>
        <p:blipFill>
          <a:blip r:embed="rId2"/>
          <a:srcRect l="6478" t="0" r="24414" b="0"/>
          <a:stretch/>
        </p:blipFill>
        <p:spPr>
          <a:xfrm>
            <a:off x="227160" y="946080"/>
            <a:ext cx="3504960" cy="4924440"/>
          </a:xfrm>
          <a:prstGeom prst="rect">
            <a:avLst/>
          </a:prstGeom>
          <a:ln w="0">
            <a:noFill/>
          </a:ln>
        </p:spPr>
      </p:pic>
      <p:sp>
        <p:nvSpPr>
          <p:cNvPr id="101" name="矩形 9"/>
          <p:cNvSpPr/>
          <p:nvPr/>
        </p:nvSpPr>
        <p:spPr>
          <a:xfrm>
            <a:off x="3768840" y="120168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This is Zhang Y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She _____ a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_____ and  a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791240" y="20574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032520" y="1968480"/>
            <a:ext cx="26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ng-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914640" y="2590920"/>
            <a:ext cx="10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7680" y="2903400"/>
            <a:ext cx="241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ng-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14640" y="3581280"/>
            <a:ext cx="10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y071"/>
          <p:cNvPicPr/>
          <p:nvPr/>
        </p:nvPicPr>
        <p:blipFill>
          <a:blip r:embed="rId2"/>
          <a:stretch/>
        </p:blipFill>
        <p:spPr>
          <a:xfrm>
            <a:off x="263520" y="471600"/>
            <a:ext cx="3668760" cy="5254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4133880" y="361800"/>
            <a:ext cx="4284720" cy="59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These are Tom and his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 ______ a baseball b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______ they ______ a base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No, they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They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996160" y="1566720"/>
            <a:ext cx="15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503600" y="30272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394160" y="37209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183360" y="45975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4323600" y="156672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d74ce585a6178ab1dd9ef773837e15bd.jpg"/>
          <p:cNvPicPr/>
          <p:nvPr/>
        </p:nvPicPr>
        <p:blipFill>
          <a:blip r:embed="rId2"/>
          <a:srcRect l="4720" t="0" r="0" b="7144"/>
          <a:stretch/>
        </p:blipFill>
        <p:spPr>
          <a:xfrm>
            <a:off x="372960" y="1311120"/>
            <a:ext cx="3859200" cy="3468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4352760" y="690480"/>
            <a:ext cx="428472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This is my friend and that is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______ a volley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______ you ______ 2 volleybal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No, ____ _______. W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813280" y="17496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718160" y="31478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835680" y="31370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324480" y="4524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21240" y="1797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8800" y="44877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306800" y="76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人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3800" y="233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人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11080" y="415908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人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001320" y="54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001320" y="1165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01320" y="211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964960" y="4524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单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038040" y="280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001320" y="3867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588200" y="43488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390560" y="10922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389840" y="204156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4353480" y="280836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4060800" y="3757680"/>
            <a:ext cx="27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y, boy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4024440" y="4451400"/>
            <a:ext cx="18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e, she,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6397560" y="838080"/>
            <a:ext cx="466920" cy="3321000"/>
          </a:xfrm>
          <a:custGeom>
            <a:avLst/>
            <a:gdLst>
              <a:gd name="textAreaLeft" fmla="*/ 0 w 466920"/>
              <a:gd name="textAreaRight" fmla="*/ 168480 w 466920"/>
              <a:gd name="textAreaTop" fmla="*/ 138600 h 3321000"/>
              <a:gd name="textAreaBottom" fmla="*/ 3182400 h 33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2"/>
                  <a:pt x="10800" y="2884"/>
                </a:cubicBezTo>
                <a:lnTo>
                  <a:pt x="10800" y="7916"/>
                </a:lnTo>
                <a:cubicBezTo>
                  <a:pt x="10800" y="9358"/>
                  <a:pt x="16200" y="10800"/>
                  <a:pt x="21600" y="10800"/>
                </a:cubicBezTo>
                <a:cubicBezTo>
                  <a:pt x="16200" y="10800"/>
                  <a:pt x="10800" y="12242"/>
                  <a:pt x="10800" y="13684"/>
                </a:cubicBezTo>
                <a:lnTo>
                  <a:pt x="10800" y="18716"/>
                </a:lnTo>
                <a:cubicBezTo>
                  <a:pt x="10800" y="20158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6141960" y="4560840"/>
            <a:ext cx="609840" cy="486000"/>
          </a:xfrm>
          <a:custGeom>
            <a:avLst/>
            <a:gdLst>
              <a:gd name="textAreaLeft" fmla="*/ 75960 w 609840"/>
              <a:gd name="textAreaRight" fmla="*/ 533880 w 6098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7092720" y="2114640"/>
            <a:ext cx="7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7018200" y="4414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18T00:05:03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